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E80-9B83-4D1B-9F65-13EA91A8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9DD-A292-4E8B-838C-1C6B49ED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EA8-DFC0-4A4C-A776-86DA3953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FF1-92B2-45E8-8390-E242F8C8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34E-3393-4345-82E2-AC859A0A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A06-31C0-49A7-93DF-97AEBCCD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CEE-07DC-4FBA-AA12-5993FB9A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8D6-4CE3-4FE4-94AF-889833BD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B78-750D-414F-A730-A8BE9BD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754-20FB-46C7-8646-10A5065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F08-5E7D-43FE-9073-FFDF3BF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F4E-3493-4446-B1DA-7868771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3A73-CA1D-41D1-8E07-1DAE59A6F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Applications, 2011 -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Unit 3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Applications  Unit 3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Applications Uni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240" y="1773360"/>
            <a:ext cx="75535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OS 1: online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AOS 2: organisations and data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725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A Uni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7619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blem Solving Methodology, (ADD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308240" y="1600200"/>
            <a:ext cx="652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23:43:47Z</dcterms:created>
  <dc:creator>01421606</dc:creator>
  <dc:description/>
  <dc:language>en-US</dc:language>
  <cp:lastModifiedBy>01421606</cp:lastModifiedBy>
  <dcterms:modified xsi:type="dcterms:W3CDTF">2010-11-21T00:09:30Z</dcterms:modified>
  <cp:revision>4</cp:revision>
  <dc:subject/>
  <dc:title>Slide 1</dc:title>
</cp:coreProperties>
</file>